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01CB-D228-45BF-BE04-06A945F71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8B1E-ADE8-419A-957F-1A31E9B7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832A-4473-4BE4-A7B1-EC3E6B9AD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EA5A-40DE-456D-99EB-0CFF4E58D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4851-F2DD-4FDD-815B-493713F5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CA0A-00C3-4905-BA35-FAF5472E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D215-2F09-4F0B-8510-92144DB4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367B-9407-45F4-A356-5FB14BA1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D290-50C5-420D-A497-003521A1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7307-7DE7-46B1-BB9F-B93F89AB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C5F7-199A-4065-89A4-0138EB33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D65C-3B22-46C7-8E71-61F874AB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B879-ECA4-4DA1-B62D-F3380271C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6400" y="2016000"/>
            <a:ext cx="8547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000066"/>
                </a:solidFill>
                <a:latin typeface="Arial"/>
              </a:rPr>
              <a:t>Present Day Russia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68520" y="4368960"/>
            <a:ext cx="702288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Arial"/>
              </a:rPr>
              <a:t>By: Magdalena, Jennifer, and Ja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79440" y="304560"/>
            <a:ext cx="94010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00"/>
                </a:solidFill>
                <a:latin typeface="Arial"/>
              </a:rPr>
              <a:t>Environmental Issu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79440" y="1828800"/>
            <a:ext cx="94010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00"/>
                </a:solidFill>
                <a:latin typeface="Arial"/>
              </a:rPr>
              <a:t>Russia’s old communist government didn’t do much for the government. They gave out lots of dirty smoke and dumped poisons into rivers and lak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They also polluted the air, water, and land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66ff"/>
                </a:solidFill>
                <a:latin typeface="Arial"/>
              </a:rPr>
              <a:t>Now Russia is using nuclear energy plants. Even though they don’t pollute the air, they leave dangerous by-product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9440" y="304560"/>
            <a:ext cx="94010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3366ff"/>
                </a:solidFill>
                <a:latin typeface="Arial"/>
              </a:rPr>
              <a:t>Environmental Issu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79440" y="1828800"/>
            <a:ext cx="94010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938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383b3"/>
                </a:solidFill>
                <a:latin typeface="Arial"/>
              </a:rPr>
              <a:t>Here are some pictures showing these environmental problems in Russia: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Arial"/>
              </a:rPr>
              <a:t>These are factories giving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Arial"/>
              </a:rPr>
              <a:t>out gas (left). And to th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Arial"/>
              </a:rPr>
              <a:t>(right) are nuclear power plant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2624040"/>
            <a:ext cx="5292720" cy="3525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418000" y="3556080"/>
            <a:ext cx="474192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79440" y="304560"/>
            <a:ext cx="94010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336699"/>
                </a:solidFill>
                <a:latin typeface="Arial"/>
              </a:rPr>
              <a:t>Life Expectanc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79440" y="1828800"/>
            <a:ext cx="94010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Arial"/>
              </a:rPr>
              <a:t>Russia' old economy polluted the air making it less healthy. Russia’s air pollution also has caused rising cancer and falling life expectancy in the country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9933"/>
                </a:solidFill>
                <a:latin typeface="Arial"/>
              </a:rPr>
              <a:t>Now most people are suffering from lung diseases. This shows that Russia’s population is becoming less healthy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total population: 66.39 years </a:t>
            </a:r>
            <a:br>
              <a:rPr sz="3100"/>
            </a:b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male: 59.91 years </a:t>
            </a:r>
            <a:br>
              <a:rPr sz="3100"/>
            </a:br>
            <a:r>
              <a:rPr b="0" lang="en-US" sz="3100" spc="-1" strike="noStrike">
                <a:solidFill>
                  <a:srgbClr val="ffff00"/>
                </a:solidFill>
                <a:latin typeface="Arial"/>
              </a:rPr>
              <a:t>female: 73.27 years (2004 est.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9440" y="304560"/>
            <a:ext cx="94010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993366"/>
                </a:solidFill>
                <a:latin typeface="Arial"/>
              </a:rPr>
              <a:t>Life Expectanc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79440" y="1828800"/>
            <a:ext cx="94010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ff33"/>
                </a:solidFill>
                <a:latin typeface="Arial"/>
              </a:rPr>
              <a:t>Here is a chart showing lowering rates of life expectancy in Russia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30240" y="2624040"/>
            <a:ext cx="7886880" cy="49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5880" y="303120"/>
            <a:ext cx="9667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5818e"/>
                </a:solidFill>
                <a:latin typeface="Arial"/>
              </a:rPr>
              <a:t>          </a:t>
            </a:r>
            <a:r>
              <a:rPr b="0" lang="en-US" sz="4300" spc="-1" strike="noStrike">
                <a:solidFill>
                  <a:srgbClr val="45818e"/>
                </a:solidFill>
                <a:latin typeface="Arial"/>
              </a:rPr>
              <a:t>Russia's New Goverme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d966"/>
                </a:solidFill>
                <a:latin typeface="Arial"/>
              </a:rPr>
              <a:t>Russia is still learning on how to act in their new govermen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6b26b"/>
                </a:solidFill>
                <a:latin typeface="Arial"/>
              </a:rPr>
              <a:t>Before, the Russian leaders could do whatever they want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6b26b"/>
                </a:solidFill>
                <a:latin typeface="Arial"/>
              </a:rPr>
              <a:t>They also got to punish any people who would criticize their descion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06666"/>
                </a:solidFill>
                <a:latin typeface="Arial"/>
              </a:rPr>
              <a:t>Now the leaders must learn to follow the new law and the Russian goverment officials have to adjust to accepting disagreements over the goverment policies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                   </a:t>
            </a:r>
            <a:r>
              <a:rPr b="1" lang="en-US" sz="4300" spc="-1" strike="noStrike">
                <a:solidFill>
                  <a:srgbClr val="6fa8dc"/>
                </a:solidFill>
                <a:latin typeface="Arial"/>
              </a:rPr>
              <a:t>Ethnic Group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34f5c"/>
                </a:solidFill>
                <a:latin typeface="Arial"/>
              </a:rPr>
              <a:t>Russia has many different ethnic groups.Some groups want to form their own countries seperate from Russi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b45f06"/>
                </a:solidFill>
                <a:latin typeface="Arial"/>
              </a:rPr>
              <a:t>One of these groups are the Chechens. They live in Chechnya close to the Caspian Sea in the southern part of Russi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0000"/>
                </a:solidFill>
                <a:latin typeface="Arial"/>
              </a:rPr>
              <a:t>The Russian troops have fought the Chechen forces to still keep Chechnya a part of southern Russi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9fc5e8"/>
                </a:solidFill>
                <a:latin typeface="Arial"/>
              </a:rPr>
              <a:t>                  </a:t>
            </a:r>
            <a:r>
              <a:rPr b="1" lang="en-US" sz="4300" spc="-1" strike="noStrike">
                <a:solidFill>
                  <a:srgbClr val="6fa8dc"/>
                </a:solidFill>
                <a:latin typeface="Arial"/>
              </a:rPr>
              <a:t>Ethnic Group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5800" y="1422000"/>
            <a:ext cx="9667800" cy="54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2700" spc="-1" strike="noStrike">
                <a:solidFill>
                  <a:srgbClr val="b6d7a8"/>
                </a:solidFill>
                <a:latin typeface="Arial"/>
              </a:rPr>
              <a:t>Here is a map showing some different ethnic groups in Russia including Chechnya(Chechens)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b6d7a8"/>
                </a:solidFill>
                <a:latin typeface="Arial"/>
              </a:rPr>
              <a:t>                   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b6d7a8"/>
                </a:solidFill>
                <a:latin typeface="Arial"/>
              </a:rPr>
              <a:t>  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               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79440" y="304560"/>
            <a:ext cx="94010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Good Things About Present Russ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79440" y="1828800"/>
            <a:ext cx="94010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9966ff"/>
                </a:solidFill>
                <a:latin typeface="Arial"/>
              </a:rPr>
              <a:t>Russia has followed the United States in their government and economy style. Now they have adopted a free market economy and a democracy. People now in Russia can vote for their leader and put prices on products freely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66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ffcc"/>
                </a:solidFill>
                <a:latin typeface="Arial"/>
              </a:rPr>
              <a:t>Russia is starting their first suburbs around cities. This idea may give people more space, but still be close to citie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